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011D-7A87-4F06-8C72-3CC7DB94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2979-E008-4FFE-A5DE-4FA93190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633-A779-42E0-9D28-80150CE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578-FADE-4A7D-B4E1-A071CD8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3B6-23BD-442B-B47D-0841132B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C10-C868-4C37-BD9A-773A0947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AB6-2960-4688-9DD9-0B77A562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F0B-10AA-4565-AB8C-0EC2524E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B2E-AB5A-4939-B389-65E93263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547-E4A5-405F-9357-2D786BF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E01-1122-4186-8202-BC62535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0E4-86F8-4B28-90FB-19A0EA56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53B-1F73-404F-B810-938257F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B39-2128-4334-AC46-7CBE1303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0B78-5449-42E0-8C17-F0643C1C4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306864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Рецензирање прој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575800" y="486900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П8 и ИП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788640" y="6165720"/>
            <a:ext cx="192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рагујевац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Фаз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26828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тријаже, предлози се шаљу спољним рецензентима на разматр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цензенти се најчешће бирају према њиховој експертизи из области пре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ључна карактеристика ове фазе прегледа је да су предлози пројекат анонимни (тако да рецензент и апликант не буду ни у каквом конфликту интере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цензенти обично имају око 3 - 4 недеље да би завршили прву реценз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цензенти користе често скалу за оцењивање квалитета пројекта где су прецизно дефинисани критеријуми рец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Фаз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999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ритеријуми за реценз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важнији критеријуми за процену квалитета пројекта су следећ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ригиналност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учни потенцијал/те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олошка поузда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Етичка нач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инансијска по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рганизација 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мењивост у пракси/индустр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Фаз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6999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им процене квалитета самог пројекта/истраживања врло често се оцењује 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ама организациј/институција која стоји као носилац извођења прој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партнерска институција из земље и ин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чланови истраживачког тима (број и квалитет публикација који имају везе са пројектом и уопш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. Фаз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26828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цензија може бити таква 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е пројекат прихвата за финансирање без измена (у постојећем облик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е пројекат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аћ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утору на дораду без нове рец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е пројекат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аћ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утору на дораду уз нову реценз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3. Фаза одлуч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916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нешена одлука се прослеђује администрацији која у најскоријем року обавештава пројектне апликан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оналазак реценз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62828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њих година проналазак релевантних рецензената постаје пробл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ози због који ови проблеми настају су број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рој пројектних апликација са годинама се повећ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експерти из различитих области су обично презаузети другим рецензијама, обавезама ис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једини рецензенти потражују финансијске надокнаде за своје услу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аст броја пројектних апликација током го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20840" t="29158" r="24128" b="13750"/>
          <a:stretch/>
        </p:blipFill>
        <p:spPr>
          <a:xfrm>
            <a:off x="1042920" y="1628640"/>
            <a:ext cx="712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оналазак реценз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197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ебан проблем представља укључење редовних професора или научних саветника у рец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бог тога се у поступке рецензије често укључују и мање квалификовано академско особ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3615" t="31590" r="20793" b="11949"/>
          <a:stretch/>
        </p:blipFill>
        <p:spPr>
          <a:xfrm>
            <a:off x="900000" y="2924280"/>
            <a:ext cx="7020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итички осврт н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ло често рецензије и рецензенти наилазе на критиску научне јавност због следећег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ирократске не-ефика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умње у компетентност реценза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страсности рецензента неком типу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дугим роковима израде рец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зним врстама интерних и екстерних притис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напређење процеса рецен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28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 рецензије пројеката се континуирано унапређује на више нач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нтрола рецензената од стране различитих интерних и екстерних орг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нгажовање искључиво страних рецензената који не могу бити у сукобу интереса са пројектом или члановима пројектног 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ришћење прецизно конструисаних образаца за рецензију који не дозвољавају пристрасност и обезбеђују објективност рецен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нгажовање искључиво експерата из уже научне области прој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6640" indent="-296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387160" y="278136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УВОДНА РАЗМАТР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Особитости рецензира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Јуниор пројеката ФМ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цензија ЈП ФМ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униор или интерни пројекти Факултета медицинских наука подлежу строгој, двострукој и анонимној реценз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позитивне одлуке рецензената пројекат се прихвата за финансирање од стране Факултета медицинских на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аки рецензнент добија образац за рецензију који се састоји од прецизно дефинисаних критеријума који се боду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бирањем свих бодова добија се укупни скор на основу кога се прецењује квалитет предложеног прој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Критеријуми за оцењи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а заснованост прој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јал за публиковање резултата у међународним часопис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етентност главног и осталих истражив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чај истраживања за развој кадрова Медицинског факул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водљивост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аки од критеријума рецензент мора детљано да образл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ишљење реценз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0606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јекат прихватити за финанс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јекат вратити аутору на дораду, није потребна нова рец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јекат вратити аутору на дораду, потребна нова рец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прихватити пројекат за објављ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557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цензија пројеката има сличности са рецензијом научног чла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а заједничка одлика оба типа рецензије је да експерти из одговарајућих поља процењују научни квалитет тј. допринос написан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вом најосновнијем облик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цензиј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јека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кључује екстерне (а понекад и интерне) академске експерте на основу чијих одлука се одлучује који ће се пројекат прихватити односно финансира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СПЕКТ ОДГОВО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ше од 95% јавних финансиј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мењени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медицинс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раживања се додељује након процес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цензије пројек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ћи да се само у Великој Британији годишње на финансирање пројеката потроши преко 2  милијарде фунти, јасно је да процес рецензије пројеката поред научне носи и велику финансијку одговор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вету (а поготово 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AD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 ова одговорност се огледа и у губитку радних места учесника пројеката који након контроле пројекта/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цензиј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нису испунили очек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цензије пројеката утичу и на изтраду докторских дисертација као и академско напред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64240" y="278136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ПОСТУПАК РЕЦЕНЗИР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АЗЕ У ПОСТУПКУ РЕЦЕНЗИ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чно постоје 3 фазе поступка рецензирања пројек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аза тријаж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којој се пројекти који не испуњавају критеријуме одбацу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аза рецензиј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којој пројекте оцењују појединци или групе експерата, и процењен на њихов квалитет Димензије квалитета пре свега подразумевају методолошке аспекте и оригиналност предложеног истражи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аза одлучивањ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којој се коначни исход поступка рецензије прослеђује подносиоцима пројектне документације (ауторима пројек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АЗЕ У ПОСТУПКУ РЕЦЕНЗИ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3622" t="18332" r="33577" b="6250"/>
          <a:stretch/>
        </p:blipFill>
        <p:spPr>
          <a:xfrm>
            <a:off x="1908000" y="1052640"/>
            <a:ext cx="5543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1. Фаза трија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 финансирања пројеката (на пример Министарства здравља, науке исл.) прикупљају пројектне предлоге на више нач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Многи користе приступ вођен од стране истраживача, прихватајући предлоге пројеката током целе године путем тзв. отворених позив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pen call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Постоје и позиви за апликовање пројеката у одређеним временским тачкама - са фиксним ро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1. Фаза трија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26828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што су прикупљени поднесени предлози, орган финансирања спроводи интерну почетну рецензију ради обављања почетне тријаже апли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еријуми прихватања укључују процедуралне факторе као што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) да ли је предлог пројекта у складу са правилним форматом пријаве који је утврдио орган финанс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2) да ли подносиоци захтева испуњавају критеријуме за подоб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ед тога, могу бити разматрана и материјална средства планирана за спровођење пројекта (да ли је предложено истраживање у складу са стратегијом финансир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ХХХ</cp:lastModifiedBy>
  <dcterms:modified xsi:type="dcterms:W3CDTF">2020-05-26T10:54:43Z</dcterms:modified>
  <cp:revision>220</cp:revision>
  <dc:subject/>
  <dc:title>Slide 1</dc:title>
</cp:coreProperties>
</file>